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47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089160"/>
            <a:ext cx="849600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Аппаратно-программное обеспечение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П.Василь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 «МУЛЬТИМЕДИА ТЕХН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393372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пециаль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1900 "Информационные системы и техноло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1413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Занятие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Аппаратная часть мультимедиа. МРС-стандарт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788D-B7DA-40AF-8D6E-D41C9A1C415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8608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5.1" descr=""/>
          <p:cNvPicPr/>
          <p:nvPr/>
        </p:nvPicPr>
        <p:blipFill>
          <a:blip r:embed="rId1"/>
          <a:stretch/>
        </p:blipFill>
        <p:spPr>
          <a:xfrm>
            <a:off x="431640" y="1700280"/>
            <a:ext cx="4321440" cy="4321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08360" y="162864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88000" y="1665360"/>
            <a:ext cx="40320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та для нелинейного видеомонтаж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roVIDEO D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C5E18-8995-4811-AA97-585E73D6737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03280" y="1125360"/>
          <a:ext cx="8136000" cy="5087880"/>
        </p:xfrm>
        <a:graphic>
          <a:graphicData uri="http://schemas.openxmlformats.org/drawingml/2006/table">
            <a:tbl>
              <a:tblPr/>
              <a:tblGrid>
                <a:gridCol w="4248000"/>
                <a:gridCol w="38880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етод компресс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-JP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зрешение видео (для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L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CAM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8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6 24 би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ифровой пот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кадр/с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AM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 кадр/с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жатие для кад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В- системы на "ввод"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 SECAM NT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деовх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комп., 1 S-Vide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"Живое" окно на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, только для предва-рительного просмот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цифровка зву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ахват ТВ -кадра без компресс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В-выв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L/NTS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полнительные возмож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цифровка звука и воспроиз-вед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екомендации по использовани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линейный монтаж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HS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кач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1406520" y="512640"/>
            <a:ext cx="66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сновные возможности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iroVIDEO DC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30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lus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24000" y="1413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Занятие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Периферия для мультимеди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3B16-640C-4A42-845C-F37409273B5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08360" y="162864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14680" y="348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SR4_2" descr=""/>
          <p:cNvPicPr/>
          <p:nvPr/>
        </p:nvPicPr>
        <p:blipFill>
          <a:blip r:embed="rId1"/>
          <a:stretch/>
        </p:blipFill>
        <p:spPr>
          <a:xfrm>
            <a:off x="358920" y="2398680"/>
            <a:ext cx="3960720" cy="29019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788000" y="1665360"/>
            <a:ext cx="403200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УЛЬТИМЕДИЙНЫЕ ПРОЕКТ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екто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VC DL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0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9C42-E1C6-4373-BA9C-F89EE58404A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35640" y="69228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3213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ub_02-02" descr=""/>
          <p:cNvPicPr/>
          <p:nvPr/>
        </p:nvPicPr>
        <p:blipFill>
          <a:blip r:embed="rId1"/>
          <a:stretch/>
        </p:blipFill>
        <p:spPr>
          <a:xfrm>
            <a:off x="826920" y="498600"/>
            <a:ext cx="3060720" cy="26780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26920" y="3357720"/>
            <a:ext cx="2989440" cy="30765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753080" y="585720"/>
            <a:ext cx="40320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24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оявлением телевизоров на жидких кристаллах (ЖК) у разработчиков возникла остроумная мысль использовать ЖК-матрицу как основной элемент в прямом проектор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0000" y="3284640"/>
            <a:ext cx="403236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24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996 г.появился аппарат, разработанный американской фирмой Texas Instruments и основанный на совершенно новом принципе DLP (Digital Light Processing - цифровая обработка светового поток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65E0-5098-4D25-B546-24A5B14BCE2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35640" y="69228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0000" y="585720"/>
            <a:ext cx="4211640" cy="57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24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стройство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MD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кристал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DMD-матрица представляет собой кремниевую пластину с прямоугольным массивом размещенных на ее поверхности отражающих элементов. Каждый такой элемент содержит микрозеркал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ST1_1" descr=""/>
          <p:cNvPicPr/>
          <p:nvPr/>
        </p:nvPicPr>
        <p:blipFill>
          <a:blip r:embed="rId1"/>
          <a:stretch/>
        </p:blipFill>
        <p:spPr>
          <a:xfrm>
            <a:off x="216000" y="1739880"/>
            <a:ext cx="417672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290D-AD76-479C-9FA9-FA54D541EA9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User</cp:lastModifiedBy>
  <dcterms:modified xsi:type="dcterms:W3CDTF">2009-01-16T07:33:17Z</dcterms:modified>
  <cp:revision>94</cp:revision>
  <dc:subject/>
  <dc:title>Lecture Template </dc:title>
</cp:coreProperties>
</file>